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AC290-03F5-44F1-8448-95105E6D6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62063-97B0-4F7F-8D24-84FAEDA31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C3AAE9-E1AC-4C96-B017-06909ADE5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F5F7A1-C456-488A-8EBD-92AD19114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CF0E4C-6515-418D-B80C-00DCF0BFA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885D20-81A3-4C7A-99CE-E42D53DFF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021562-5651-4E3B-859D-2AE1E3463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A81798-C99C-483E-B528-027734957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A843E9-F599-4D8C-A236-0FCF3DFC6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1F4751-10C0-4013-9536-BBE1A5537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E25904-54C2-4F3F-ABFD-FC60BC59A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7D963E-3520-43C5-9B3E-00C3477B5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FAEB2-9A99-499B-B134-431A8EAE4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0AB3CE-E466-4C0D-BB55-225C1900D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EEC7F7-8ABB-48EB-8746-18F15F032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E50314-CC1B-45C5-9558-7D0C7F6FC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8A5FD0-3CC3-4DEA-A406-26BD8A5C2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8792B4-F6F4-45F2-B06F-603686BB5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E81E02-22C4-40C7-983F-D17C61D52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6F1267-C513-40C0-A2EE-FA0B15A35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EA578B-C623-4701-A6A8-2CA4C9CF4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6D28DB-1383-406D-AA30-867278A4F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6743CB-6126-438A-AF82-C3B474161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08DA4-CDE0-4B42-8AAA-69C76E68D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A507CC-9846-46CB-A6A4-25C66F294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0BCEB-2BD1-43BF-88D8-4C2EDC8F8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DDF33-2EEA-464E-BBDF-C11596EE6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D483B-275F-48AE-BB67-BF4D3EEDE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C4FDF-5859-4312-A9D3-61709E172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E4CEB-4718-4117-B10D-C9D736BC0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248C8-522E-421E-B1EF-1BE7F3DCC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4A3D1-AF2B-452A-9FE3-B648C0CD3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582A0-9B0E-489A-AEB1-55C0E426F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28898-39F7-4EE5-9CB9-FCA69847C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F4115-5786-4FBF-8B15-6DAC21DBE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7F0D9-F144-418E-9A87-38B42715D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4A449-9EE8-49C8-96D9-58D150E5A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6A82F-8827-44FF-8F67-8CD909251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FE7117-E270-4DCA-B842-D6E5F260E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CEEB87-5D9D-4527-8F80-D1CDA6998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0AFBBE-A757-42AF-B2FF-8001CEA6B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A919E5-790E-4BF2-A27C-4CCE77272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AD0EA7-7389-447F-BB9C-D287FB92D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E1A69-15F9-420F-A65F-0FB287055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E401C9-7B61-49C3-A15A-91A683C55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1C4855-8AE3-4CEF-B27B-5221D5F20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9BB043-E016-4287-82AA-A032D44C8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DDDC7C-4DD0-4DB9-B945-6334184DF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4817B8-BD42-4474-A870-FECCC2666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F41D6B-FD8D-400E-A808-2E62814D3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3470EB-65F0-40DB-B99A-7E99A8357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C708B7-8669-45C5-8D13-2DF251CCD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F00343-1D9D-4C8E-8122-754F6076C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646839-646C-447A-B617-96AE9877F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11004-0653-4F59-B3BC-571113B2D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94FCC8-E26F-4B7E-823E-7EBE6838A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F5DF55-9F2F-471D-8FB8-009B7E581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EDC502-B19D-48F7-A235-9D6C96835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03E94A-D6B4-4346-90A7-483F05D4C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598B53-CCD0-4412-A398-3666CEBD6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E87E30-5E11-4F8D-B319-359A1FEB6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BB5A3C-C76D-4303-94CB-49AE9D5CE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B1BAF1-C7E8-4346-B882-2002284C0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5EF766-B2FA-477A-A0AF-325DBB2CF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744903-F535-4D3E-AE2D-0DA22CACB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B4B2A-6D4A-4558-9921-AE7E892F8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094952-DBBF-4692-971B-42A4D1BBE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FFE660-3879-42AB-81F1-C51C7DFDF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EF8F3C-7D13-4D4A-9442-F329E6018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28F239-E8E7-4510-9005-762E5ACCC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106EFF-F9BC-492A-AE73-F6330D21A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29FB68-B9BB-454D-B43A-02164BB06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E831B0-47B2-4EA0-B39A-06BBCE2AC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CD8A65-191C-4D88-8055-92F1FCDD8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F72101-2AA9-4491-A5B5-D201EE9F0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DFDDE8-3580-4CC0-B966-64AC908C2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1A42D-8399-43D2-9592-A0123BD96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BFE750-F118-4D6B-955A-C15D1DD2E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4829BC-78C4-432C-9966-C9E079412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75D734-D97D-4948-BD87-25A60704E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BD40B1-EE37-4880-85CC-54817810A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0274F3-5FAF-4DB8-A9AD-6666F080F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979965-2E4B-4CEB-8CDA-A17BE48C2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BB63F4-8915-4F52-8E0E-78AEBD9E2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464355-12FE-422C-AAB0-5B33C9E81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BE2C23-9317-40F6-88A9-6D3124F6B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B6786C-595A-444E-86E3-F2541DDCD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E0DC1-0DA6-4794-9A88-C613B004F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0BCDFD-38E4-48F8-AF98-2F1CD5F8B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D2FD94-9E1E-481D-8D4E-4487A087D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FCE0C7-3D2F-45DD-8990-549C6BBFD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0D4761-2707-4E32-B64F-B6A551A9E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4D0D06-5DC1-4A9F-9CD4-84D76C3FD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8C6FA9-6F72-44B3-B9ED-8D4DBE43F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1C740D-4776-4010-ACEC-6705B74DC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0053C9-836F-472B-A085-8E33389C6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30FB78-7ACB-428F-8D01-1BFF1B8B8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E9A6F2-6E73-4B94-ADF4-B74454563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13682-396E-48CB-802C-D23C0EA82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6AB560-47CC-4BEC-BDB8-AC2CC2E5E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F1CA7E-38CA-4647-87A1-DAE3AF898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F9E012-E6E3-4230-BE14-A256CB52E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E78BE3-F20B-4222-9292-4B64EDB25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CBC3C7-5021-44A0-A1DC-E01066034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E522C0-FDE2-44D1-96F0-8C186EBE9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53D89C-4A3F-4957-B9C8-8CFE5045D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FC5A3B-5197-40CE-AC7C-791751ABB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FB1D00-D402-4155-B79C-C02960049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368A6D-3287-4366-8174-03AFC039E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D999D-B92E-4839-999B-8EB940C8A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E38C5B-FF12-4B2C-9B83-7F6DE28C2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22BC81-47F9-441A-86E8-6D3B3F6CA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2AA0F6-C6C1-4E01-9DAE-06E8AADE3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61C7FA-F0E2-4D99-AAF0-3DDD108C6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59B3D9-3B48-498A-BC5A-E6CBF054D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85EEBA-2E78-498A-AF8F-C5FB3BBE9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A04450-EF1A-4145-8D67-90BB08B67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A26E48-68CD-4773-A43B-0FD548595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900DDD-33C8-4FD0-A29D-945569513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DCE2FC-7463-4573-972F-5995026E3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E6772-340A-4F58-83FD-8C06C6ACD676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6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Rectangle 7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8" name="Group 8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449" name="Freeform 9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450" name="Freeform 9" descr=""/>
              <p:cNvPicPr/>
              <p:nvPr/>
            </p:nvPicPr>
            <p:blipFill>
              <a:blip r:embed="rId2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1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2" name="Rectangle 10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c0504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Rectangle 11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28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9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0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99D1F-33A0-4906-B016-81125323BCD3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5"/>
          <p:cNvSpPr/>
          <p:nvPr/>
        </p:nvSpPr>
        <p:spPr>
          <a:xfrm>
            <a:off x="0" y="1928880"/>
            <a:ext cx="9144000" cy="492912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46" descr="2.png"/>
          <p:cNvPicPr/>
          <p:nvPr/>
        </p:nvPicPr>
        <p:blipFill>
          <a:blip r:embed="rId2"/>
          <a:stretch/>
        </p:blipFill>
        <p:spPr>
          <a:xfrm>
            <a:off x="5072040" y="3571920"/>
            <a:ext cx="3718080" cy="328608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20"/>
          <p:cNvGrpSpPr/>
          <p:nvPr/>
        </p:nvGrpSpPr>
        <p:grpSpPr>
          <a:xfrm>
            <a:off x="7287480" y="716400"/>
            <a:ext cx="867600" cy="1688400"/>
            <a:chOff x="7287480" y="716400"/>
            <a:chExt cx="867600" cy="1688400"/>
          </a:xfrm>
        </p:grpSpPr>
        <p:sp>
          <p:nvSpPr>
            <p:cNvPr id="44" name="Rectangle 19"/>
            <p:cNvSpPr/>
            <p:nvPr/>
          </p:nvSpPr>
          <p:spPr>
            <a:xfrm rot="360000">
              <a:off x="7868880" y="878760"/>
              <a:ext cx="210960" cy="1445040"/>
            </a:xfrm>
            <a:prstGeom prst="rect">
              <a:avLst/>
            </a:prstGeom>
            <a:gradFill rotWithShape="0">
              <a:gsLst>
                <a:gs pos="0">
                  <a:srgbClr val="7f7f7f">
                    <a:alpha val="0"/>
                  </a:srgbClr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" name="Group 18"/>
            <p:cNvGrpSpPr/>
            <p:nvPr/>
          </p:nvGrpSpPr>
          <p:grpSpPr>
            <a:xfrm>
              <a:off x="7287480" y="716400"/>
              <a:ext cx="669960" cy="1688400"/>
              <a:chOff x="7287480" y="716400"/>
              <a:chExt cx="669960" cy="1688400"/>
            </a:xfrm>
          </p:grpSpPr>
          <p:sp>
            <p:nvSpPr>
              <p:cNvPr id="46" name="Rectangle 16"/>
              <p:cNvSpPr/>
              <p:nvPr/>
            </p:nvSpPr>
            <p:spPr>
              <a:xfrm rot="360000">
                <a:off x="7425720" y="740880"/>
                <a:ext cx="502920" cy="576360"/>
              </a:xfrm>
              <a:prstGeom prst="rect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Rectangle 17"/>
              <p:cNvSpPr/>
              <p:nvPr/>
            </p:nvSpPr>
            <p:spPr>
              <a:xfrm rot="360000">
                <a:off x="7341840" y="1310760"/>
                <a:ext cx="502920" cy="1070280"/>
              </a:xfrm>
              <a:prstGeom prst="rect">
                <a:avLst/>
              </a:prstGeom>
              <a:solidFill>
                <a:srgbClr val="dce6f2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8" name="Group 26"/>
          <p:cNvGrpSpPr/>
          <p:nvPr/>
        </p:nvGrpSpPr>
        <p:grpSpPr>
          <a:xfrm>
            <a:off x="7856640" y="1067400"/>
            <a:ext cx="966600" cy="1712880"/>
            <a:chOff x="7856640" y="1067400"/>
            <a:chExt cx="966600" cy="1712880"/>
          </a:xfrm>
        </p:grpSpPr>
        <p:sp>
          <p:nvSpPr>
            <p:cNvPr id="49" name="Rectangle 22"/>
            <p:cNvSpPr/>
            <p:nvPr/>
          </p:nvSpPr>
          <p:spPr>
            <a:xfrm rot="600000">
              <a:off x="8488440" y="1246320"/>
              <a:ext cx="210960" cy="1444320"/>
            </a:xfrm>
            <a:prstGeom prst="rect">
              <a:avLst/>
            </a:prstGeom>
            <a:gradFill rotWithShape="0">
              <a:gsLst>
                <a:gs pos="0">
                  <a:srgbClr val="7f7f7f">
                    <a:alpha val="0"/>
                  </a:srgbClr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Rectangle 24"/>
            <p:cNvSpPr/>
            <p:nvPr/>
          </p:nvSpPr>
          <p:spPr>
            <a:xfrm rot="600000">
              <a:off x="8082000" y="1106640"/>
              <a:ext cx="503280" cy="576000"/>
            </a:xfrm>
            <a:prstGeom prst="rect">
              <a:avLst/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Rectangle 25"/>
            <p:cNvSpPr/>
            <p:nvPr/>
          </p:nvSpPr>
          <p:spPr>
            <a:xfrm rot="600000">
              <a:off x="7945560" y="1674360"/>
              <a:ext cx="503280" cy="1069920"/>
            </a:xfrm>
            <a:prstGeom prst="rect">
              <a:avLst/>
            </a:prstGeom>
            <a:solidFill>
              <a:srgbClr val="f2dcdb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Group 41"/>
          <p:cNvGrpSpPr/>
          <p:nvPr/>
        </p:nvGrpSpPr>
        <p:grpSpPr>
          <a:xfrm>
            <a:off x="0" y="1809720"/>
            <a:ext cx="9144000" cy="120600"/>
            <a:chOff x="0" y="1809720"/>
            <a:chExt cx="9144000" cy="120600"/>
          </a:xfrm>
        </p:grpSpPr>
        <p:sp>
          <p:nvSpPr>
            <p:cNvPr id="53" name="Straight Connector 31"/>
            <p:cNvSpPr/>
            <p:nvPr/>
          </p:nvSpPr>
          <p:spPr>
            <a:xfrm>
              <a:off x="0" y="180972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Straight Connector 33"/>
            <p:cNvSpPr/>
            <p:nvPr/>
          </p:nvSpPr>
          <p:spPr>
            <a:xfrm>
              <a:off x="0" y="186516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Straight Connector 34"/>
            <p:cNvSpPr/>
            <p:nvPr/>
          </p:nvSpPr>
          <p:spPr>
            <a:xfrm>
              <a:off x="0" y="192888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6" name="Group 277" descr=""/>
          <p:cNvPicPr/>
          <p:nvPr/>
        </p:nvPicPr>
        <p:blipFill>
          <a:blip r:embed="rId3"/>
          <a:stretch/>
        </p:blipFill>
        <p:spPr>
          <a:xfrm>
            <a:off x="438120" y="2298600"/>
            <a:ext cx="1414440" cy="149868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71E0C-702F-435D-88F0-F1EC9748B8F6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traight Connector 6"/>
          <p:cNvSpPr/>
          <p:nvPr/>
        </p:nvSpPr>
        <p:spPr>
          <a:xfrm>
            <a:off x="0" y="1316160"/>
            <a:ext cx="8577360" cy="1440"/>
          </a:xfrm>
          <a:prstGeom prst="line">
            <a:avLst/>
          </a:prstGeom>
          <a:ln w="9360">
            <a:solidFill>
              <a:srgbClr val="c4bd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Group 277" descr=""/>
          <p:cNvPicPr/>
          <p:nvPr/>
        </p:nvPicPr>
        <p:blipFill>
          <a:blip r:embed="rId2"/>
          <a:stretch/>
        </p:blipFill>
        <p:spPr>
          <a:xfrm>
            <a:off x="317520" y="212760"/>
            <a:ext cx="968400" cy="100008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11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12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Group 18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103" name="Freeform 14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104" name="Freeform 14" descr=""/>
              <p:cNvPicPr/>
              <p:nvPr/>
            </p:nvPicPr>
            <p:blipFill>
              <a:blip r:embed="rId3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6" name="Rectangle 16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4f81b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Rectangle 17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7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8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9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67595-8D3B-4966-806E-27F1907959C9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18"/>
          <p:cNvSpPr/>
          <p:nvPr/>
        </p:nvSpPr>
        <p:spPr>
          <a:xfrm>
            <a:off x="0" y="4718160"/>
            <a:ext cx="9144000" cy="172872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Group 6"/>
          <p:cNvGrpSpPr/>
          <p:nvPr/>
        </p:nvGrpSpPr>
        <p:grpSpPr>
          <a:xfrm>
            <a:off x="7031880" y="3440520"/>
            <a:ext cx="867960" cy="1688400"/>
            <a:chOff x="7031880" y="3440520"/>
            <a:chExt cx="867960" cy="1688400"/>
          </a:xfrm>
        </p:grpSpPr>
        <p:sp>
          <p:nvSpPr>
            <p:cNvPr id="151" name="Rectangle 7"/>
            <p:cNvSpPr/>
            <p:nvPr/>
          </p:nvSpPr>
          <p:spPr>
            <a:xfrm rot="360000">
              <a:off x="7613640" y="3602880"/>
              <a:ext cx="210960" cy="1445040"/>
            </a:xfrm>
            <a:prstGeom prst="rect">
              <a:avLst/>
            </a:prstGeom>
            <a:gradFill rotWithShape="0">
              <a:gsLst>
                <a:gs pos="0">
                  <a:srgbClr val="7f7f7f">
                    <a:alpha val="0"/>
                  </a:srgbClr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2" name="Group 18"/>
            <p:cNvGrpSpPr/>
            <p:nvPr/>
          </p:nvGrpSpPr>
          <p:grpSpPr>
            <a:xfrm>
              <a:off x="7031880" y="3440520"/>
              <a:ext cx="670320" cy="1688400"/>
              <a:chOff x="7031880" y="3440520"/>
              <a:chExt cx="670320" cy="1688400"/>
            </a:xfrm>
          </p:grpSpPr>
          <p:sp>
            <p:nvSpPr>
              <p:cNvPr id="153" name="Rectangle 9"/>
              <p:cNvSpPr/>
              <p:nvPr/>
            </p:nvSpPr>
            <p:spPr>
              <a:xfrm rot="360000">
                <a:off x="7170120" y="3465000"/>
                <a:ext cx="503280" cy="576360"/>
              </a:xfrm>
              <a:prstGeom prst="rect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Rectangle 10"/>
              <p:cNvSpPr/>
              <p:nvPr/>
            </p:nvSpPr>
            <p:spPr>
              <a:xfrm rot="360000">
                <a:off x="7086240" y="4034880"/>
                <a:ext cx="503280" cy="1070280"/>
              </a:xfrm>
              <a:prstGeom prst="rect">
                <a:avLst/>
              </a:prstGeom>
              <a:solidFill>
                <a:srgbClr val="dce6f2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5" name="Group 11"/>
          <p:cNvGrpSpPr/>
          <p:nvPr/>
        </p:nvGrpSpPr>
        <p:grpSpPr>
          <a:xfrm>
            <a:off x="7620120" y="3791520"/>
            <a:ext cx="966600" cy="1712880"/>
            <a:chOff x="7620120" y="3791520"/>
            <a:chExt cx="966600" cy="1712880"/>
          </a:xfrm>
        </p:grpSpPr>
        <p:sp>
          <p:nvSpPr>
            <p:cNvPr id="156" name="Rectangle 12"/>
            <p:cNvSpPr/>
            <p:nvPr/>
          </p:nvSpPr>
          <p:spPr>
            <a:xfrm rot="600000">
              <a:off x="8251920" y="3970440"/>
              <a:ext cx="210960" cy="1444320"/>
            </a:xfrm>
            <a:prstGeom prst="rect">
              <a:avLst/>
            </a:prstGeom>
            <a:gradFill rotWithShape="0">
              <a:gsLst>
                <a:gs pos="0">
                  <a:srgbClr val="7f7f7f">
                    <a:alpha val="0"/>
                  </a:srgbClr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Rectangle 13"/>
            <p:cNvSpPr/>
            <p:nvPr/>
          </p:nvSpPr>
          <p:spPr>
            <a:xfrm rot="600000">
              <a:off x="7845480" y="3830760"/>
              <a:ext cx="503280" cy="576000"/>
            </a:xfrm>
            <a:prstGeom prst="rect">
              <a:avLst/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14"/>
            <p:cNvSpPr/>
            <p:nvPr/>
          </p:nvSpPr>
          <p:spPr>
            <a:xfrm rot="600000">
              <a:off x="7709040" y="4398480"/>
              <a:ext cx="503280" cy="1069920"/>
            </a:xfrm>
            <a:prstGeom prst="rect">
              <a:avLst/>
            </a:prstGeom>
            <a:solidFill>
              <a:srgbClr val="f2dcdb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" name="Group 19"/>
          <p:cNvGrpSpPr/>
          <p:nvPr/>
        </p:nvGrpSpPr>
        <p:grpSpPr>
          <a:xfrm>
            <a:off x="0" y="4575240"/>
            <a:ext cx="9144000" cy="120600"/>
            <a:chOff x="0" y="4575240"/>
            <a:chExt cx="9144000" cy="120600"/>
          </a:xfrm>
        </p:grpSpPr>
        <p:sp>
          <p:nvSpPr>
            <p:cNvPr id="160" name="Straight Connector 15"/>
            <p:cNvSpPr/>
            <p:nvPr/>
          </p:nvSpPr>
          <p:spPr>
            <a:xfrm>
              <a:off x="0" y="457524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Straight Connector 16"/>
            <p:cNvSpPr/>
            <p:nvPr/>
          </p:nvSpPr>
          <p:spPr>
            <a:xfrm>
              <a:off x="0" y="463068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Straight Connector 17"/>
            <p:cNvSpPr/>
            <p:nvPr/>
          </p:nvSpPr>
          <p:spPr>
            <a:xfrm>
              <a:off x="0" y="469440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63" name="Group 277" descr=""/>
          <p:cNvPicPr/>
          <p:nvPr/>
        </p:nvPicPr>
        <p:blipFill>
          <a:blip r:embed="rId2"/>
          <a:stretch/>
        </p:blipFill>
        <p:spPr>
          <a:xfrm>
            <a:off x="360360" y="5005440"/>
            <a:ext cx="992160" cy="106668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0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1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2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C9F73-88E2-451E-9834-512994694C13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9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208" name="Freeform 10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209" name="Freeform 10" descr=""/>
              <p:cNvPicPr/>
              <p:nvPr/>
            </p:nvPicPr>
            <p:blipFill>
              <a:blip r:embed="rId2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0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1" name="Rectangle 11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c0504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Rectangle 12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3" name="Straight Connector 13"/>
          <p:cNvSpPr/>
          <p:nvPr/>
        </p:nvSpPr>
        <p:spPr>
          <a:xfrm>
            <a:off x="0" y="1316160"/>
            <a:ext cx="8577360" cy="1440"/>
          </a:xfrm>
          <a:prstGeom prst="line">
            <a:avLst/>
          </a:prstGeom>
          <a:ln w="9360">
            <a:solidFill>
              <a:srgbClr val="c4bd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4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5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0A929-27CD-4C9D-9CDC-292844985B31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9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6" name="Group 10"/>
          <p:cNvGrpSpPr/>
          <p:nvPr/>
        </p:nvGrpSpPr>
        <p:grpSpPr>
          <a:xfrm>
            <a:off x="0" y="1143000"/>
            <a:ext cx="9144000" cy="120600"/>
            <a:chOff x="0" y="1143000"/>
            <a:chExt cx="9144000" cy="120600"/>
          </a:xfrm>
        </p:grpSpPr>
        <p:sp>
          <p:nvSpPr>
            <p:cNvPr id="257" name="Straight Connector 11"/>
            <p:cNvSpPr/>
            <p:nvPr/>
          </p:nvSpPr>
          <p:spPr>
            <a:xfrm>
              <a:off x="0" y="114300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Straight Connector 12"/>
            <p:cNvSpPr/>
            <p:nvPr/>
          </p:nvSpPr>
          <p:spPr>
            <a:xfrm>
              <a:off x="0" y="119844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Straight Connector 13"/>
            <p:cNvSpPr/>
            <p:nvPr/>
          </p:nvSpPr>
          <p:spPr>
            <a:xfrm>
              <a:off x="0" y="126216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60" name="Group 277" descr=""/>
          <p:cNvPicPr/>
          <p:nvPr/>
        </p:nvPicPr>
        <p:blipFill>
          <a:blip r:embed="rId2"/>
          <a:stretch/>
        </p:blipFill>
        <p:spPr>
          <a:xfrm>
            <a:off x="285840" y="146160"/>
            <a:ext cx="860400" cy="93348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6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17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18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C0B7F-C9FD-4734-A9D7-1660802F358A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Rectangle 8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4" name="Group 9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305" name="Freeform 10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306" name="Freeform 10" descr=""/>
              <p:cNvPicPr/>
              <p:nvPr/>
            </p:nvPicPr>
            <p:blipFill>
              <a:blip r:embed="rId2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7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8" name="Rectangle 11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4f81b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Rectangle 12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ftr" idx="20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sldNum" idx="21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7E417-FCC7-4635-9F56-934F9D1236B8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8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Rectangle 9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3" name="Group 10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354" name="Freeform 11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355" name="Freeform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6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7" name="Rectangle 12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4f81b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Rectangle 13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 type="dt" idx="22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 type="ftr" idx="23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 type="sldNum" idx="24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194D4-6859-4D24-8264-A8716E4F9A22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6"/>
          <p:cNvSpPr/>
          <p:nvPr/>
        </p:nvSpPr>
        <p:spPr>
          <a:xfrm>
            <a:off x="0" y="0"/>
            <a:ext cx="9144000" cy="139068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1" name="Group 7"/>
          <p:cNvGrpSpPr/>
          <p:nvPr/>
        </p:nvGrpSpPr>
        <p:grpSpPr>
          <a:xfrm>
            <a:off x="0" y="1380960"/>
            <a:ext cx="9144000" cy="120960"/>
            <a:chOff x="0" y="1380960"/>
            <a:chExt cx="9144000" cy="120960"/>
          </a:xfrm>
        </p:grpSpPr>
        <p:sp>
          <p:nvSpPr>
            <p:cNvPr id="402" name="Straight Connector 8"/>
            <p:cNvSpPr/>
            <p:nvPr/>
          </p:nvSpPr>
          <p:spPr>
            <a:xfrm>
              <a:off x="0" y="138096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Straight Connector 9"/>
            <p:cNvSpPr/>
            <p:nvPr/>
          </p:nvSpPr>
          <p:spPr>
            <a:xfrm>
              <a:off x="0" y="143676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Straight Connector 10"/>
            <p:cNvSpPr/>
            <p:nvPr/>
          </p:nvSpPr>
          <p:spPr>
            <a:xfrm>
              <a:off x="0" y="150048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 type="dt" idx="25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 type="ftr" idx="26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 type="sldNum" idx="27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9F33E-D701-487A-9AEC-AD1891D1EB7B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457200" y="2998440"/>
            <a:ext cx="629136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  <a:ea typeface="굴림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rbel"/>
                <a:ea typeface="굴림"/>
              </a:rPr>
              <a:t>KORN 101-01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title"/>
          </p:nvPr>
        </p:nvSpPr>
        <p:spPr>
          <a:xfrm>
            <a:off x="1499760" y="4856040"/>
            <a:ext cx="6985080" cy="136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LESSON 5. </a:t>
            </a: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한국말을 배우십니까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?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4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20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__________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을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를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_________(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스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)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ㅂ니다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선물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사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지하철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타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불고기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먹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신문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읽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운동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하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1" name="Picture 4" descr=""/>
          <p:cNvPicPr/>
          <p:nvPr/>
        </p:nvPicPr>
        <p:blipFill>
          <a:blip r:embed="rId1"/>
          <a:stretch/>
        </p:blipFill>
        <p:spPr>
          <a:xfrm>
            <a:off x="3924360" y="2205000"/>
            <a:ext cx="2628720" cy="1733760"/>
          </a:xfrm>
          <a:prstGeom prst="rect">
            <a:avLst/>
          </a:prstGeom>
          <a:ln w="0">
            <a:noFill/>
          </a:ln>
        </p:spPr>
      </p:pic>
      <p:pic>
        <p:nvPicPr>
          <p:cNvPr id="522" name="Picture 5" descr=""/>
          <p:cNvPicPr/>
          <p:nvPr/>
        </p:nvPicPr>
        <p:blipFill>
          <a:blip r:embed="rId2"/>
          <a:stretch/>
        </p:blipFill>
        <p:spPr>
          <a:xfrm>
            <a:off x="6378480" y="2205000"/>
            <a:ext cx="2619360" cy="1743120"/>
          </a:xfrm>
          <a:prstGeom prst="rect">
            <a:avLst/>
          </a:prstGeom>
          <a:ln w="0">
            <a:noFill/>
          </a:ln>
        </p:spPr>
      </p:pic>
      <p:pic>
        <p:nvPicPr>
          <p:cNvPr id="523" name="Picture 6" descr=""/>
          <p:cNvPicPr/>
          <p:nvPr/>
        </p:nvPicPr>
        <p:blipFill>
          <a:blip r:embed="rId3"/>
          <a:stretch/>
        </p:blipFill>
        <p:spPr>
          <a:xfrm>
            <a:off x="3635280" y="382104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7" descr=""/>
          <p:cNvPicPr/>
          <p:nvPr/>
        </p:nvPicPr>
        <p:blipFill>
          <a:blip r:embed="rId4"/>
          <a:stretch/>
        </p:blipFill>
        <p:spPr>
          <a:xfrm>
            <a:off x="6213600" y="3954600"/>
            <a:ext cx="2543040" cy="1800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5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26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7030a0"/>
                </a:solidFill>
                <a:latin typeface="Corbel"/>
                <a:ea typeface="굴림"/>
              </a:rPr>
              <a:t>가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  <a:ea typeface="굴림"/>
              </a:rPr>
              <a:t>: _________</a:t>
            </a:r>
            <a:r>
              <a:rPr b="0" lang="ko-KR" sz="3200" spc="-1" strike="noStrike">
                <a:solidFill>
                  <a:srgbClr val="7030a0"/>
                </a:solidFill>
                <a:latin typeface="Corbel"/>
                <a:ea typeface="굴림"/>
              </a:rPr>
              <a:t>을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  <a:ea typeface="굴림"/>
              </a:rPr>
              <a:t>/</a:t>
            </a:r>
            <a:r>
              <a:rPr b="0" lang="ko-KR" sz="3200" spc="-1" strike="noStrike">
                <a:solidFill>
                  <a:srgbClr val="7030a0"/>
                </a:solidFill>
                <a:latin typeface="Corbel"/>
                <a:ea typeface="굴림"/>
              </a:rPr>
              <a:t>를 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  <a:ea typeface="굴림"/>
              </a:rPr>
              <a:t>_________(</a:t>
            </a:r>
            <a:r>
              <a:rPr b="0" lang="ko-KR" sz="3200" spc="-1" strike="noStrike">
                <a:solidFill>
                  <a:srgbClr val="7030a0"/>
                </a:solidFill>
                <a:latin typeface="Corbel"/>
                <a:ea typeface="굴림"/>
              </a:rPr>
              <a:t>으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  <a:ea typeface="굴림"/>
              </a:rPr>
              <a:t>)</a:t>
            </a:r>
            <a:r>
              <a:rPr b="0" lang="ko-KR" sz="3200" spc="-1" strike="noStrike">
                <a:solidFill>
                  <a:srgbClr val="7030a0"/>
                </a:solidFill>
                <a:latin typeface="Corbel"/>
                <a:ea typeface="굴림"/>
              </a:rPr>
              <a:t>십니까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  <a:ea typeface="굴림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  <a:ea typeface="굴림"/>
              </a:rPr>
              <a:t>   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나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: _________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을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/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를 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_________(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)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ㅂ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무엇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배우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영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무엇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보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영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무엇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읽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잡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누구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기다리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동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누구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만나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사장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숙제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Assignment)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28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Do the writing practice on p.54 and 55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"/>
          <p:cNvSpPr txBox="1"/>
          <p:nvPr/>
        </p:nvSpPr>
        <p:spPr>
          <a:xfrm>
            <a:off x="456840" y="1600200"/>
            <a:ext cx="8110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마크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이것이 무엇입니까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00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0000"/>
                </a:solidFill>
                <a:latin typeface="Corbel"/>
                <a:ea typeface="굴림"/>
              </a:rPr>
              <a:t>이것은 </a:t>
            </a:r>
            <a:r>
              <a:rPr b="0" lang="en-US" sz="2800" spc="-1" strike="noStrike">
                <a:solidFill>
                  <a:srgbClr val="ff0000"/>
                </a:solidFill>
                <a:latin typeface="Corbel"/>
                <a:ea typeface="굴림"/>
              </a:rPr>
              <a:t>~, </a:t>
            </a:r>
            <a:r>
              <a:rPr b="0" lang="ko-KR" sz="2800" spc="-1" strike="noStrike">
                <a:solidFill>
                  <a:srgbClr val="ff0000"/>
                </a:solidFill>
                <a:latin typeface="Corbel"/>
                <a:ea typeface="굴림"/>
              </a:rPr>
              <a:t>이것이 </a:t>
            </a:r>
            <a:r>
              <a:rPr b="0" lang="en-US" sz="28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0000"/>
                </a:solidFill>
                <a:latin typeface="Corbel"/>
                <a:ea typeface="굴림"/>
              </a:rPr>
              <a:t> </a:t>
            </a:r>
            <a:r>
              <a:rPr b="0" lang="ko-KR" sz="2800" spc="-1" strike="noStrike">
                <a:solidFill>
                  <a:srgbClr val="ff0000"/>
                </a:solidFill>
                <a:latin typeface="Corbel"/>
                <a:ea typeface="굴림"/>
              </a:rPr>
              <a:t>이게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야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한국어 교과서입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마크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한국말을 배우십니까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야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,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한국말을 배웁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00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0000"/>
                </a:solidFill>
                <a:latin typeface="Corbel"/>
                <a:ea typeface="굴림"/>
              </a:rPr>
              <a:t>네</a:t>
            </a:r>
            <a:r>
              <a:rPr b="0" lang="en-US" sz="2800" spc="-1" strike="noStrike">
                <a:solidFill>
                  <a:srgbClr val="ff0000"/>
                </a:solidFill>
                <a:latin typeface="Corbel"/>
                <a:ea typeface="굴림"/>
              </a:rPr>
              <a:t>, </a:t>
            </a:r>
            <a:r>
              <a:rPr b="0" lang="ko-KR" sz="2800" spc="-1" strike="noStrike">
                <a:solidFill>
                  <a:srgbClr val="ff0000"/>
                </a:solidFill>
                <a:latin typeface="Corbel"/>
                <a:ea typeface="굴림"/>
              </a:rPr>
              <a:t>그렇습니다 </a:t>
            </a:r>
            <a:r>
              <a:rPr b="0" lang="en-US" sz="2800" spc="-1" strike="noStrike">
                <a:solidFill>
                  <a:srgbClr val="ff0000"/>
                </a:solidFill>
                <a:latin typeface="Corbel"/>
                <a:ea typeface="굴림"/>
              </a:rPr>
              <a:t>(Yes, I do)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DIALOGUE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단어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Vocabulary)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0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한국말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어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) Korean (language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배우다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lear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교과서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textboo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문법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Grammar) 1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2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이것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저것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그것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this/that/it; pronou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이것은 아주 좋습니다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저것은 누구의 옷입니까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그것을 저에게 주십시오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~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이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가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; subject postposi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자동차가 많습니다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cc"/>
                </a:solidFill>
                <a:latin typeface="Corbel"/>
                <a:ea typeface="굴림"/>
              </a:rPr>
              <a:t>이것이 연필입니다</a:t>
            </a:r>
            <a:r>
              <a:rPr b="0" lang="en-US" sz="2800" spc="-1" strike="noStrike">
                <a:solidFill>
                  <a:srgbClr val="0000cc"/>
                </a:solidFill>
                <a:latin typeface="Corbel"/>
                <a:ea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cc"/>
                </a:solidFill>
                <a:latin typeface="Corbel"/>
                <a:ea typeface="굴림"/>
              </a:rPr>
              <a:t>그분이 우리 어머니입니다</a:t>
            </a:r>
            <a:r>
              <a:rPr b="0" lang="en-US" sz="2800" spc="-1" strike="noStrike">
                <a:solidFill>
                  <a:srgbClr val="0000cc"/>
                </a:solidFill>
                <a:latin typeface="Corbel"/>
                <a:ea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rbel"/>
                <a:ea typeface="굴림"/>
              </a:rPr>
              <a:t>~</a:t>
            </a:r>
            <a:r>
              <a:rPr b="0" lang="ko-KR" sz="2800" spc="-1" strike="noStrike">
                <a:solidFill>
                  <a:srgbClr val="ff0000"/>
                </a:solidFill>
                <a:latin typeface="Corbel"/>
                <a:ea typeface="굴림"/>
              </a:rPr>
              <a:t>은</a:t>
            </a:r>
            <a:r>
              <a:rPr b="0" lang="en-US" sz="2800" spc="-1" strike="noStrike">
                <a:solidFill>
                  <a:srgbClr val="ff0000"/>
                </a:solidFill>
                <a:latin typeface="Corbel"/>
                <a:ea typeface="굴림"/>
              </a:rPr>
              <a:t>/</a:t>
            </a:r>
            <a:r>
              <a:rPr b="0" lang="ko-KR" sz="2800" spc="-1" strike="noStrike">
                <a:solidFill>
                  <a:srgbClr val="ff0000"/>
                </a:solidFill>
                <a:latin typeface="Corbel"/>
                <a:ea typeface="굴림"/>
              </a:rPr>
              <a:t>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76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문법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Grammar) 2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무엇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what; an interrogative pronou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이것이 무엇입니까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무엇을 먹었습니까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무엇을 좋아합니까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~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을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를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; an object postposi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이 버스를 타십시오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저는 한국말을 공부합니다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그 사람은 운동을 좋아합니까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/>
          <p:cNvSpPr txBox="1"/>
          <p:nvPr/>
        </p:nvSpPr>
        <p:spPr>
          <a:xfrm>
            <a:off x="503280" y="1600200"/>
            <a:ext cx="3859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냉장고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refrigerator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안경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glasse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꽃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flower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문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door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지하철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subway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신문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newspaper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영어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English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잡지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magazine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4498920" y="1600200"/>
            <a:ext cx="3859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사전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dictionary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공책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notebook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달력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calendar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선물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gift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불고기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Bulgogi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편지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letter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영화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movie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보충단어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Additional Vocabulary)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Pattern Drill) 1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9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____________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이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가 무엇입니까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저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그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이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2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1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가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 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________</a:t>
            </a: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이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/</a:t>
            </a: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가 무엇입니까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   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나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:  ________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은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/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는 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________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입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이것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구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저것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시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저것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가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그것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책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그것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냉장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2" name="Picture 4" descr=""/>
          <p:cNvPicPr/>
          <p:nvPr/>
        </p:nvPicPr>
        <p:blipFill>
          <a:blip r:embed="rId1"/>
          <a:stretch/>
        </p:blipFill>
        <p:spPr>
          <a:xfrm>
            <a:off x="4140360" y="285264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513" name="Picture 5" descr=""/>
          <p:cNvPicPr/>
          <p:nvPr/>
        </p:nvPicPr>
        <p:blipFill>
          <a:blip r:embed="rId2"/>
          <a:stretch/>
        </p:blipFill>
        <p:spPr>
          <a:xfrm>
            <a:off x="6434280" y="2800440"/>
            <a:ext cx="2019240" cy="2266920"/>
          </a:xfrm>
          <a:prstGeom prst="rect">
            <a:avLst/>
          </a:prstGeom>
          <a:ln w="0">
            <a:noFill/>
          </a:ln>
        </p:spPr>
      </p:pic>
      <p:pic>
        <p:nvPicPr>
          <p:cNvPr id="514" name="Picture 6" descr=""/>
          <p:cNvPicPr/>
          <p:nvPr/>
        </p:nvPicPr>
        <p:blipFill>
          <a:blip r:embed="rId3"/>
          <a:stretch/>
        </p:blipFill>
        <p:spPr>
          <a:xfrm>
            <a:off x="1662120" y="5300640"/>
            <a:ext cx="1609560" cy="1481040"/>
          </a:xfrm>
          <a:prstGeom prst="rect">
            <a:avLst/>
          </a:prstGeom>
          <a:ln w="0">
            <a:noFill/>
          </a:ln>
        </p:spPr>
      </p:pic>
      <p:pic>
        <p:nvPicPr>
          <p:cNvPr id="515" name="Picture 7" descr=""/>
          <p:cNvPicPr/>
          <p:nvPr/>
        </p:nvPicPr>
        <p:blipFill>
          <a:blip r:embed="rId4"/>
          <a:stretch/>
        </p:blipFill>
        <p:spPr>
          <a:xfrm>
            <a:off x="3492360" y="5018040"/>
            <a:ext cx="2505240" cy="1828800"/>
          </a:xfrm>
          <a:prstGeom prst="rect">
            <a:avLst/>
          </a:prstGeom>
          <a:ln w="0">
            <a:noFill/>
          </a:ln>
        </p:spPr>
      </p:pic>
      <p:pic>
        <p:nvPicPr>
          <p:cNvPr id="516" name="Picture 8" descr=""/>
          <p:cNvPicPr/>
          <p:nvPr/>
        </p:nvPicPr>
        <p:blipFill>
          <a:blip r:embed="rId5"/>
          <a:stretch/>
        </p:blipFill>
        <p:spPr>
          <a:xfrm>
            <a:off x="6084720" y="479736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3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8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가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 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________</a:t>
            </a: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이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/</a:t>
            </a: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가 무엇입니까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   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나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:  ________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은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/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는 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________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입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이것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그것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안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그것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이것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공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그것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이것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저것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저것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달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저것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저것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26T08:40:46Z</dcterms:created>
  <dc:creator>jyy</dc:creator>
  <dc:description/>
  <dc:language>en-US</dc:language>
  <cp:lastModifiedBy>SRU</cp:lastModifiedBy>
  <dcterms:modified xsi:type="dcterms:W3CDTF">2012-10-29T14:28:19Z</dcterms:modified>
  <cp:revision>90</cp:revision>
  <dc:subject/>
  <dc:title>KOREAN LANGUAGE</dc:title>
</cp:coreProperties>
</file>